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ED0-9681-485E-B675-D4E6728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126-AA31-47C1-9275-251B89C7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9E8-CEAE-43E2-837C-6856B5C8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9F9-06EF-4EB0-A820-6505191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881-B4A7-41D7-B1D2-44FFA272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E5A-1886-4CE2-B936-24A3866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8ABE-F154-4A3D-AADB-C5CAA403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B2C7-B97C-406E-ABA9-3A4BC9E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EB41-0206-4469-82D4-9E10BF4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466F-BAB3-4B71-8A5C-DCBF7A8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93D7-537C-4110-AEA2-A2574E3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8AB-236D-4F60-A8C7-482FAD41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5A39-2503-4201-96C7-14B300B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7775-D7EE-46ED-AB0F-6CECFAE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D184-73AE-4FE5-B925-1923D18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401-3800-426F-A25D-DDE6287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BE29-0F65-4831-A45E-9C6EAF82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E04-F71A-4E8B-982E-9275672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3D9-B959-4E45-BDC7-9E0CF84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D8E-1E47-4A1B-8FE5-A7416B2F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76C-3E93-4A73-A3F6-CA2F94A2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98B-A5F3-4505-82B6-FA2D728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50B-685D-437E-99DD-B1F5DA55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02A-3796-4278-AA9A-EB9C8A4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082-7FCE-4954-9063-C77A262F2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36CB-BDDC-4907-9D8C-8BB230E56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501336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атарина Парезанови</a:t>
            </a:r>
            <a:r>
              <a:rPr b="0" lang="sr-Latn-CS" sz="2400" spc="-1" strike="noStrike">
                <a:solidFill>
                  <a:srgbClr val="080808"/>
                </a:solidFill>
                <a:latin typeface="Arial"/>
              </a:rPr>
              <a:t>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ехабилитација трауматоло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ких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болес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ШТАНИ ПРЕЛОМИ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5280" y="1904760"/>
            <a:ext cx="61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ганиз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 калус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 к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са.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Успорено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стварање калу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ш пoл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 ф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гмена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елика 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локациј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по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на ил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неа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на им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иза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т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ерк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љењ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ефин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 неср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ј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псеудоар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а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ства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л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г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г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б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реме зарастања прелома костиј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5" name="Group 161"/>
          <p:cNvGrpSpPr/>
          <p:nvPr/>
        </p:nvGrpSpPr>
        <p:grpSpPr>
          <a:xfrm>
            <a:off x="1042920" y="1989000"/>
            <a:ext cx="7561440" cy="3384720"/>
            <a:chOff x="1042920" y="1989000"/>
            <a:chExt cx="7561440" cy="3384720"/>
          </a:xfrm>
        </p:grpSpPr>
        <p:sp>
          <p:nvSpPr>
            <p:cNvPr id="126" name="AutoShape 162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63"/>
            <p:cNvGrpSpPr/>
            <p:nvPr/>
          </p:nvGrpSpPr>
          <p:grpSpPr>
            <a:xfrm>
              <a:off x="1042920" y="1989000"/>
              <a:ext cx="7548480" cy="3366720"/>
              <a:chOff x="1042920" y="1989000"/>
              <a:chExt cx="7548480" cy="3366720"/>
            </a:xfrm>
          </p:grpSpPr>
          <p:grpSp>
            <p:nvGrpSpPr>
              <p:cNvPr id="128" name="Group 164"/>
              <p:cNvGrpSpPr/>
              <p:nvPr/>
            </p:nvGrpSpPr>
            <p:grpSpPr>
              <a:xfrm>
                <a:off x="1042920" y="1989000"/>
                <a:ext cx="1377360" cy="1812600"/>
                <a:chOff x="1042920" y="1989000"/>
                <a:chExt cx="1377360" cy="1812600"/>
              </a:xfrm>
            </p:grpSpPr>
            <p:sp>
              <p:nvSpPr>
                <p:cNvPr id="129" name="Rectangle 165"/>
                <p:cNvSpPr/>
                <p:nvPr/>
              </p:nvSpPr>
              <p:spPr>
                <a:xfrm>
                  <a:off x="1129680" y="1989000"/>
                  <a:ext cx="120420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ст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66"/>
                <p:cNvSpPr/>
                <p:nvPr/>
              </p:nvSpPr>
              <p:spPr>
                <a:xfrm>
                  <a:off x="1042920" y="1989000"/>
                  <a:ext cx="137736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67"/>
              <p:cNvGrpSpPr/>
              <p:nvPr/>
            </p:nvGrpSpPr>
            <p:grpSpPr>
              <a:xfrm>
                <a:off x="2420640" y="1989000"/>
                <a:ext cx="1367280" cy="1812600"/>
                <a:chOff x="2420640" y="1989000"/>
                <a:chExt cx="1367280" cy="1812600"/>
              </a:xfrm>
            </p:grpSpPr>
            <p:sp>
              <p:nvSpPr>
                <p:cNvPr id="132" name="Rectangle 168"/>
                <p:cNvSpPr/>
                <p:nvPr/>
              </p:nvSpPr>
              <p:spPr>
                <a:xfrm>
                  <a:off x="2507400" y="1989000"/>
                  <a:ext cx="119412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бутна кост, вертебра,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арл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2420640" y="1989000"/>
                  <a:ext cx="136728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170"/>
              <p:cNvGrpSpPr/>
              <p:nvPr/>
            </p:nvGrpSpPr>
            <p:grpSpPr>
              <a:xfrm>
                <a:off x="3788640" y="1989000"/>
                <a:ext cx="1200600" cy="1812600"/>
                <a:chOff x="3788640" y="1989000"/>
                <a:chExt cx="1200600" cy="1812600"/>
              </a:xfrm>
            </p:grpSpPr>
            <p:sp>
              <p:nvSpPr>
                <p:cNvPr id="135" name="Rectangle 171"/>
                <p:cNvSpPr/>
                <p:nvPr/>
              </p:nvSpPr>
              <p:spPr>
                <a:xfrm>
                  <a:off x="38754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колен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(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тиби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72"/>
                <p:cNvSpPr/>
                <p:nvPr/>
              </p:nvSpPr>
              <p:spPr>
                <a:xfrm>
                  <a:off x="3788640" y="1989000"/>
                  <a:ext cx="120060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73"/>
              <p:cNvGrpSpPr/>
              <p:nvPr/>
            </p:nvGrpSpPr>
            <p:grpSpPr>
              <a:xfrm>
                <a:off x="4989600" y="1989000"/>
                <a:ext cx="1200240" cy="1812600"/>
                <a:chOff x="4989600" y="1989000"/>
                <a:chExt cx="1200240" cy="1812600"/>
              </a:xfrm>
            </p:grpSpPr>
            <p:sp>
              <p:nvSpPr>
                <p:cNvPr id="138" name="Rectangle 174"/>
                <p:cNvSpPr/>
                <p:nvPr/>
              </p:nvSpPr>
              <p:spPr>
                <a:xfrm>
                  <a:off x="507564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акт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5"/>
                <p:cNvSpPr/>
                <p:nvPr/>
              </p:nvSpPr>
              <p:spPr>
                <a:xfrm>
                  <a:off x="498960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176"/>
              <p:cNvGrpSpPr/>
              <p:nvPr/>
            </p:nvGrpSpPr>
            <p:grpSpPr>
              <a:xfrm>
                <a:off x="6190560" y="1989000"/>
                <a:ext cx="1200240" cy="1812600"/>
                <a:chOff x="6190560" y="1989000"/>
                <a:chExt cx="1200240" cy="1812600"/>
              </a:xfrm>
            </p:grpSpPr>
            <p:sp>
              <p:nvSpPr>
                <p:cNvPr id="141" name="Rectangle 177"/>
                <p:cNvSpPr/>
                <p:nvPr/>
              </p:nvSpPr>
              <p:spPr>
                <a:xfrm>
                  <a:off x="62766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љуц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ибул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ребр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тарсус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78"/>
                <p:cNvSpPr/>
                <p:nvPr/>
              </p:nvSpPr>
              <p:spPr>
                <a:xfrm>
                  <a:off x="61905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79"/>
              <p:cNvGrpSpPr/>
              <p:nvPr/>
            </p:nvGrpSpPr>
            <p:grpSpPr>
              <a:xfrm>
                <a:off x="7391160" y="1989000"/>
                <a:ext cx="1200240" cy="1812600"/>
                <a:chOff x="7391160" y="1989000"/>
                <a:chExt cx="1200240" cy="1812600"/>
              </a:xfrm>
            </p:grpSpPr>
            <p:sp>
              <p:nvSpPr>
                <p:cNvPr id="144" name="Rectangle 180"/>
                <p:cNvSpPr/>
                <p:nvPr/>
              </p:nvSpPr>
              <p:spPr>
                <a:xfrm>
                  <a:off x="747792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карпус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аланг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1"/>
                <p:cNvSpPr/>
                <p:nvPr/>
              </p:nvSpPr>
              <p:spPr>
                <a:xfrm>
                  <a:off x="73911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182"/>
              <p:cNvGrpSpPr/>
              <p:nvPr/>
            </p:nvGrpSpPr>
            <p:grpSpPr>
              <a:xfrm>
                <a:off x="1042920" y="3801960"/>
                <a:ext cx="1377360" cy="1553760"/>
                <a:chOff x="1042920" y="3801960"/>
                <a:chExt cx="1377360" cy="1553760"/>
              </a:xfrm>
            </p:grpSpPr>
            <p:sp>
              <p:nvSpPr>
                <p:cNvPr id="147" name="Rectangle 183"/>
                <p:cNvSpPr/>
                <p:nvPr/>
              </p:nvSpPr>
              <p:spPr>
                <a:xfrm>
                  <a:off x="1129680" y="3801960"/>
                  <a:ext cx="120420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еме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зарастањ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у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им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84"/>
                <p:cNvSpPr/>
                <p:nvPr/>
              </p:nvSpPr>
              <p:spPr>
                <a:xfrm>
                  <a:off x="1042920" y="3801960"/>
                  <a:ext cx="137736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85"/>
              <p:cNvGrpSpPr/>
              <p:nvPr/>
            </p:nvGrpSpPr>
            <p:grpSpPr>
              <a:xfrm>
                <a:off x="2420640" y="3801960"/>
                <a:ext cx="1367280" cy="1553760"/>
                <a:chOff x="2420640" y="3801960"/>
                <a:chExt cx="1367280" cy="1553760"/>
              </a:xfrm>
            </p:grpSpPr>
            <p:sp>
              <p:nvSpPr>
                <p:cNvPr id="150" name="Rectangle 186"/>
                <p:cNvSpPr/>
                <p:nvPr/>
              </p:nvSpPr>
              <p:spPr>
                <a:xfrm>
                  <a:off x="2507400" y="3801960"/>
                  <a:ext cx="119412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7"/>
                <p:cNvSpPr/>
                <p:nvPr/>
              </p:nvSpPr>
              <p:spPr>
                <a:xfrm>
                  <a:off x="2420640" y="3801960"/>
                  <a:ext cx="136728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188"/>
              <p:cNvGrpSpPr/>
              <p:nvPr/>
            </p:nvGrpSpPr>
            <p:grpSpPr>
              <a:xfrm>
                <a:off x="3788640" y="3801960"/>
                <a:ext cx="1200600" cy="1553760"/>
                <a:chOff x="3788640" y="3801960"/>
                <a:chExt cx="1200600" cy="1553760"/>
              </a:xfrm>
            </p:grpSpPr>
            <p:sp>
              <p:nvSpPr>
                <p:cNvPr id="153" name="Rectangle 189"/>
                <p:cNvSpPr/>
                <p:nvPr/>
              </p:nvSpPr>
              <p:spPr>
                <a:xfrm>
                  <a:off x="38754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90"/>
                <p:cNvSpPr/>
                <p:nvPr/>
              </p:nvSpPr>
              <p:spPr>
                <a:xfrm>
                  <a:off x="3788640" y="3801960"/>
                  <a:ext cx="120060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1"/>
              <p:cNvGrpSpPr/>
              <p:nvPr/>
            </p:nvGrpSpPr>
            <p:grpSpPr>
              <a:xfrm>
                <a:off x="4989600" y="3801960"/>
                <a:ext cx="1200240" cy="1553760"/>
                <a:chOff x="4989600" y="3801960"/>
                <a:chExt cx="1200240" cy="1553760"/>
              </a:xfrm>
            </p:grpSpPr>
            <p:sp>
              <p:nvSpPr>
                <p:cNvPr id="156" name="Rectangle 192"/>
                <p:cNvSpPr/>
                <p:nvPr/>
              </p:nvSpPr>
              <p:spPr>
                <a:xfrm>
                  <a:off x="507564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93"/>
                <p:cNvSpPr/>
                <p:nvPr/>
              </p:nvSpPr>
              <p:spPr>
                <a:xfrm>
                  <a:off x="498960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94"/>
              <p:cNvGrpSpPr/>
              <p:nvPr/>
            </p:nvGrpSpPr>
            <p:grpSpPr>
              <a:xfrm>
                <a:off x="6190560" y="3801960"/>
                <a:ext cx="1200240" cy="1553760"/>
                <a:chOff x="6190560" y="3801960"/>
                <a:chExt cx="1200240" cy="1553760"/>
              </a:xfrm>
            </p:grpSpPr>
            <p:sp>
              <p:nvSpPr>
                <p:cNvPr id="159" name="Rectangle 195"/>
                <p:cNvSpPr/>
                <p:nvPr/>
              </p:nvSpPr>
              <p:spPr>
                <a:xfrm>
                  <a:off x="62766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а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96"/>
                <p:cNvSpPr/>
                <p:nvPr/>
              </p:nvSpPr>
              <p:spPr>
                <a:xfrm>
                  <a:off x="61905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97"/>
              <p:cNvGrpSpPr/>
              <p:nvPr/>
            </p:nvGrpSpPr>
            <p:grpSpPr>
              <a:xfrm>
                <a:off x="7391160" y="3801960"/>
                <a:ext cx="1200240" cy="1553760"/>
                <a:chOff x="7391160" y="3801960"/>
                <a:chExt cx="1200240" cy="1553760"/>
              </a:xfrm>
            </p:grpSpPr>
            <p:sp>
              <p:nvSpPr>
                <p:cNvPr id="162" name="Rectangle 198"/>
                <p:cNvSpPr/>
                <p:nvPr/>
              </p:nvSpPr>
              <p:spPr>
                <a:xfrm>
                  <a:off x="747792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- 4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99"/>
                <p:cNvSpPr/>
                <p:nvPr/>
              </p:nvSpPr>
              <p:spPr>
                <a:xfrm>
                  <a:off x="73911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200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а 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У фази имобилиз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 контракције са тонусом који мора бити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д 30% од тонуса у ми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стималције - сп о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ентне стр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(високо фреквентно магнетно импулсно поље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а терапија након имобилизациј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ијa са под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a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е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aфиноте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a галвaнизацi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a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eрапијa - само aкт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 /пас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треба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е док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ус није солида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 нисмо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ур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немa остеoпорoзе и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з опрезност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9423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Ендопротеза кука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oм oперацијe - фр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хан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масив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шењe инфекц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e интраоп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в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 ц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a 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м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 н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табу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што услoвљ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розију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скавице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ије 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шипkа е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је добрo уг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a долаз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је кост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 ње и н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л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 oп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и неправилно дoзирано oптер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м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сло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лaбљењe  e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a болoва због нарушеnих д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однoс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уре;појавa oсиф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a kоји мoгу премост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ој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с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kар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са фeмур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напрa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зу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ФИЗИКАЛНИ ТРЕТМ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 поциње првог дана по операцији. Стајање и вертикализација запоциње су т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 дана од опера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ЕДЕ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нема компликација паци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етог дана од операције да седи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де је треба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но лимитирати флексију у куку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е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е о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ју да се ти захтеви седења испуне а и да устајање буде олакшано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еба избегавати у седењу пов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е ноге уназад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пава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римарно сви пацијенти лезе на ледјима уз лако абдуковане ноге при спавању.Сигурност лаке абдукције се мо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 осигурати и уметањем једног јастука измедју ногу.Окретање у кревету и друге покрете који укљу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ју и кукове треба избегавати.Након 6 недеља мозе се слободније изводити окретање у кревету. .У првом месецу након операције треба максимално избегавати ле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ње на трб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Забрањени покрети у првих 6 недељ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а у куку преко 90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укција кука преко средње линиј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ена спољна и унутрашња ротација ку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на абдукција (због слабости и ресекције абдуктора кука или великог троцантера па је потребно време до њиховог реституисањ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РЕДЕ МЕКИХ ТКИВ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87632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тетива, нерава и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лигамен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цијалне или комплетне руптур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те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а те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 зглоб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Дозвољено према време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озвољ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ње са штакам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ање под тушем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4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вање у базен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љање путницким аутомобило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 зивотне активности за зивотну доб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јави болова узети аналгетик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 и N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317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Упуство за свакодневни жив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требно 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шење еластицних завоја или еластицних цар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у току ходања или седења-скидање но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на високој столици и адаптираном тоалет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у кревету са испрузеним ногам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одневно спроводјење нацених везб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Закључ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треба 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у лекар- оператор и физијатар обавезни да пацијенту издају код отпуста из болнице" протеза - пасош". Овај документ треба да садрзи све елементе везане за операцију, тип, ве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у и друге специф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докуемнт треба да слузи ради контролних прегледа, а посебно код контрола на аеродромима, јер се метални делови кроз сигурносне провере регистру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6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Подела повреда меких тк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8360" y="1904760"/>
            <a:ext cx="46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репарац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аза запаљењ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је код свих повреда реактивног типа на настали прекид нормалне функције. Повреда доводи до оштецења и изумирања целија повредјеног ткива. Из изумрлих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ја излазе лизозомни ензими који имају даљи утицај на распадање детритуса. Формирани хемијски елементи делују на околно ткиво. Долази до вазодилатације, ексудације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 у околно ткиво из крвних судова и лимфног тока. Ова фаза траје неколико дана, код лаких повреда, а к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ајати и до две недељ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аза репарациј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 фаза за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3 или 4 дана од повреде када долази до арборизације крвних судова тј. формирања капиларних пупољака, који се канализују и формирају нову капиларну мрезу. У поцетку су они пропустљивији него обицно, али због тога долази до лакшег одавања угрозеном ткиву кисеоника и хранљивих материја из новонасталих крвних судова. Истовремено поциње активност и фибробласта који полазу еластицна фиброзна влакна. На тај нацин поциње да се организује хематом који је у медјувремену фиброзирао јер је фибриноген под деловањем ослободјеног тромбина из тромбоцита условио прелаз у фибрин. Такодје овај фибрин је био и пребојен ослободјеним хемоглобином. Долази и до мењања боје оштеценог ткива од модро плаве до зуцкасте и на крају до обезбојавања. Формирана фиброзна влакна која су у 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ку еластицна, поцињу да се ретрахују задебљавају и прелазе у колегана влакна. Цео овај процес траје око две до три недељ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94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France YU"/>
                <a:ea typeface="Times New Roman"/>
              </a:rPr>
              <a:t>Рехабилитациј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повреда меких ткива има за основни циљ да спреци настанак грубог озиљног ткива које мозе довести до знатнијег оштецења фун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вој фази основно је спрецити крварење и развој едема а што се постизе криотерапијом, елевацијом и компресивним завојем. Овакав приступ условљава смањење бола и спазма околних миш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24 - 48 сати после трауме треба побољшати периферну циркулацију, поспешити ресорпцију еxтравазата, смањење бола, успостављање физиолошке покретљивости и успостављање мишицне сн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е мер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00360" y="1904760"/>
            <a:ext cx="61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змениц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толоз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ска паковањ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/sp облик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саза /дреназног типа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ол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16360" y="1904760"/>
            <a:ext cx="59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темне дозе ув з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 нов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с 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флексне дистроф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бити бол /као гор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ганглион стеллату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цереблана галваниза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з мере опр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 + магнето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рапија</a:t>
            </a: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katarinaparezanovicilic@gmail.com</cp:lastModifiedBy>
  <dcterms:modified xsi:type="dcterms:W3CDTF">2020-09-26T17:01:45Z</dcterms:modified>
  <cp:revision>14</cp:revision>
  <dc:subject/>
  <dc:title>Rehabilitacija traumatoloških bolesnika</dc:title>
</cp:coreProperties>
</file>