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58A-67C4-4444-AFFC-E3633CC5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C42-E0D5-4447-AAEE-0E50F8AF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557-BBEC-4FBE-9FE0-8F843864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D0D-063D-4222-936D-33E44571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BA67-DC05-4B73-99C0-7BF82220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F86E-6AE6-4CC2-AD50-F99FE449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B136-47BD-4206-9907-656ADBFC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5668-E9BB-4A92-A9F3-E58F351F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C594-29FD-4759-8CDB-6F63CACA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ED9B-2EA9-461A-BB18-50F6F73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5A8-C04E-4B56-9484-ED076C0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A7A-F40E-4B63-99BD-9BC63DD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C4A0-4D00-42F0-B081-F5AC0F7B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F797-515A-4929-930C-E2CAC80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AF9B-0C58-492D-BE12-8257855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9FE3-81E6-45D4-93F9-757D9076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4BAE-63DD-4E5B-9623-538942CA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123-8713-45F2-B299-EFE0E03A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F27-E7B1-4D26-BB6F-9E61DEE9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007-C794-4A6D-A826-979399E0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F3F-25B6-4B73-88E5-733F259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475-AA29-4317-8E50-5A3AE79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F19-660C-498B-A13F-8F8DDB0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373-66D3-4CAD-8BD3-20EAF73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E30-CD39-47E2-9D32-42398F03C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7767-6A5E-41D1-8B69-1DC8D30A8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хабилитација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уматских обољењ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BUS BECHTER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droma Marie-Strumpell-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бољи назив, који је данас прихваћен, је Morbus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иви као "анкилозирајући спондилитис" и слични, иако су прихваћени имају и својих мањкавости, јер у себи садрже тумачење да је анкилоза кичменог стуба неизбежна последица. Такодје, овај назив искључује обољење периферних зглобова, а сам по себи јатрогенизује болес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апеутске вежбе се спроводе у циљу спречавања развоја контрактура (коксофеморални зглобови), јачања паравертебралне мускулатуре и очување респираторног капацитета. После овакве активности, потребан је довољно дуг одмор. Одмор треба да износи најмање 10-12 сати у току 24 сата. Но, најбоље је одмор одредјивати индивидуално (равнотежа измедју одмора и физичке активности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ј треба да је тв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, а пацијент мора лежати на ледјима. Уколико не може због болова да заузме ледјни положај, онда је дозвољен и положај лежања на трбуху. Забрањено је лежање на страни, односно лежање на б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ржавање правилног држања и покретљивo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мeнo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фази ремисије се може слободније радити у циљу истих захтева који су горе наведен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ачање паравертебралне мускулату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дисајне функци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ечавање контрактура у коксофеморал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глобови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мор у току дан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ме бити краћи од 8 - 10 с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ед кинезитерапије, примењујемо КТД, хидротерапију, подводне масаже, ултразвук, интерферентне струје, ласер терапију и магнетотерапију. Ултразвук се користи у дозама већим од 1 W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и то дуж кичменог стуба и у пределу с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илиачних зглоб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ебно би истакли да је кинезитерапија стожер физикалне терап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век усправно стајати, ходати или седе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д седења седиште треба да је тврд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ње је увек без јастука, а лежај треба да је твр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егавати свако савијање напред и подизање терета у савијеном положај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 мора бити искључиво континуиран процес (вежбати сваки дан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 ортопедских мера најчешће се користи употреба растеретних мидера и појасева у циљу корекције кифозе. Понекад се примењују и ортопедске мере у лечењу анкилозантног спондилитиса. Од тих мера најчешћа је употреба појасева - мидера и то растеретних и корективних у циљу корекције кифо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 код дегенеративног реуматиз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6550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ологија евалуациј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видуални присту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а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онална ана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тност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кут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зиционир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иотерап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ичке веж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тске физикалне процед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ЕН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асер (аналгетска фреквенциј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Хронич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м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ект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е вежбе у циљу прогресивног јачања мускула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већање обима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екција постуралних поремећа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мишићних атрофиј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контрактура зглобо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остеопорозе и деструкције костију због инактивит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ператив физикалне терапије је активни покрет. Но, у акутној фази намеће се супротност у виду мировања и позиционирања захваћених зглобова. Медјутим, и овде се може применити активни покрет кроз вид статичких контракција. По смиривању акутног процеса прелази се на динамичке контракције као једини вид природног активног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за ремис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елоидна паковањ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рмотерапија (топла и хладна диферентна зон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лас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мпулсно магнетно пољ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електротерапија (стабилна галванизација, КТД, интерферентне струје, електростимулације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мена радне терапије је битан елемент функционалне терапије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купационе терап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ункционални капаците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289400"/>
        </p:xfrm>
        <a:graphic>
          <a:graphicData uri="http://schemas.openxmlformats.org/drawingml/2006/table">
            <a:tbl>
              <a:tblPr/>
              <a:tblGrid>
                <a:gridCol w="1325520"/>
                <a:gridCol w="6446880"/>
              </a:tblGrid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онално стањ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, уз потпуно одржану радну способн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ржана функционална способност за нормалну свакодневну активност (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), упркос ограниченој покрњетљивости једног или више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 који значајно смањује радну способност. Није потребна туђа нега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а функционална неспособност, неопходна стална туђа нега и помо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стадију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ање у растеретном положају уз одржавање функционалног положаја згло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ио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инезиетрапија (статичке контракције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ш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 болесника (упознавање са процесом болести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 болес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анатомских оштећења, контрактура и деформитет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зиранa кинези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ежбе са помагaлим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пле купк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лтразвук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асеро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купuнктура (иако још увек није јасaн nачин деловањa, код појединiх случајева долази до побoљшањa)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арaфинска и пелоидна паковањa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едукација болесник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након хируршких интервенција, синовектомије, алоартропластике, артродезе и др.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, комбинованa са хидротерапиј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мотерапија илi криотерапија (зави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д степeна акутности обoљењ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асер терап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V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тешких деформациј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дрокинези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средстава за самозбрињавањ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0:41:46Z</dcterms:created>
  <dc:creator>WIN98SE</dc:creator>
  <dc:description/>
  <dc:language>en-US</dc:language>
  <cp:lastModifiedBy>Kaca</cp:lastModifiedBy>
  <dcterms:modified xsi:type="dcterms:W3CDTF">2022-08-20T13:34:47Z</dcterms:modified>
  <cp:revision>10</cp:revision>
  <dc:subject/>
  <dc:title>Rehabilitacija reumatskih oboljenja</dc:title>
</cp:coreProperties>
</file>